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01A8-73D5-4233-A724-AF52C733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330D-2440-439B-967D-FA1AB320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EDB-26EC-4AD5-96F1-0A97E85C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2CF-DABC-4783-9310-426019F9F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1A5D3-7683-41FF-BF9B-13E689490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2BA9-2542-4FA7-BB51-EE5167ED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436EE-3512-49FB-9BF1-37F547CCC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039BE-9D0F-4E32-A653-97B545DB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4B00D-C4CC-42C0-B18B-1CC6BAB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4641-F52A-46BF-B188-B8178A7A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3851-7947-4EBC-BF6B-6ACC16C1D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1E01-F78E-437B-876B-29B6BCE6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C0A2-EE7F-4DF6-825E-E375D297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30EDB-467E-446E-B470-E3A92F10C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1BF3-D274-4231-AB83-F37BE4C1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9A33-2EBF-4522-ADB5-DCED1800D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8BD3-3A8F-4693-8338-1565A25D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C35A-2A83-4153-A855-E20C1E1C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7AE8-CC42-4392-91B4-8CA32CC2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D102-60EB-4AA7-B66A-9220A7B8D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A14E-AA1B-499C-9DA3-0766916D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A6B4-7F27-4590-AF66-67539547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E4F-281F-4575-9B56-CDD0DA73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C7EB-70A8-40B3-901E-D11A2082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848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848fe"/>
                </a:gs>
                <a:gs pos="50000">
                  <a:srgbClr val="000000"/>
                </a:gs>
                <a:gs pos="100000">
                  <a:srgbClr val="4848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848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848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48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4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48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31BA-7D3A-4374-AEA6-EC1D596E276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848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4848fe"/>
                </a:gs>
                <a:gs pos="50000">
                  <a:srgbClr val="000000"/>
                </a:gs>
                <a:gs pos="100000">
                  <a:srgbClr val="4848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848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4848fe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48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48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848f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4A9A5-EA76-4177-A600-B801ADBB49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ff0000"/>
                </a:solidFill>
                <a:uFillTx/>
                <a:latin typeface="Jokerman"/>
              </a:rPr>
              <a:t>Rhythm in Motion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Jokerman"/>
              </a:rPr>
              <a:t>Nate To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cc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Jokerman"/>
              </a:rPr>
              <a:t>Basic Note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Jokerman"/>
              </a:rPr>
              <a:t>Whole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Four Beat Duration in commo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Jokerman"/>
              </a:rPr>
              <a:t>Half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Two beat Duration in commo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Joker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 half Notes = Whole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8120" y="2666880"/>
            <a:ext cx="1980720" cy="762120"/>
            <a:chOff x="3048120" y="2666880"/>
            <a:chExt cx="1980720" cy="762120"/>
          </a:xfrm>
        </p:grpSpPr>
        <p:sp>
          <p:nvSpPr>
            <p:cNvPr id="104" name=""/>
            <p:cNvSpPr/>
            <p:nvPr/>
          </p:nvSpPr>
          <p:spPr>
            <a:xfrm>
              <a:off x="3733560" y="31240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733560" y="3276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33560" y="34290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733560" y="32004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33560" y="335268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38480" y="3200400"/>
              <a:ext cx="380520" cy="2286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19360" y="2666880"/>
              <a:ext cx="0" cy="685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3048120" y="28954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3276720" y="1523520"/>
            <a:ext cx="2133360" cy="305280"/>
            <a:chOff x="3276720" y="1523520"/>
            <a:chExt cx="2133360" cy="305280"/>
          </a:xfrm>
        </p:grpSpPr>
        <p:grpSp>
          <p:nvGrpSpPr>
            <p:cNvPr id="113" name=""/>
            <p:cNvGrpSpPr/>
            <p:nvPr/>
          </p:nvGrpSpPr>
          <p:grpSpPr>
            <a:xfrm>
              <a:off x="3962520" y="1523520"/>
              <a:ext cx="1447560" cy="305280"/>
              <a:chOff x="3962520" y="1523520"/>
              <a:chExt cx="1447560" cy="305280"/>
            </a:xfrm>
          </p:grpSpPr>
          <p:sp>
            <p:nvSpPr>
              <p:cNvPr id="114" name=""/>
              <p:cNvSpPr/>
              <p:nvPr/>
            </p:nvSpPr>
            <p:spPr>
              <a:xfrm rot="10800000">
                <a:off x="4343040" y="1523520"/>
                <a:ext cx="609480" cy="304920"/>
              </a:xfrm>
              <a:prstGeom prst="ellipse">
                <a:avLst/>
              </a:prstGeom>
              <a:noFill/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62520" y="15238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962520" y="167652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962520" y="182880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62520" y="175248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962520" y="1600200"/>
                <a:ext cx="1447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20" name="" descr=""/>
            <p:cNvPicPr/>
            <p:nvPr/>
          </p:nvPicPr>
          <p:blipFill>
            <a:blip r:embed="rId2"/>
            <a:stretch/>
          </p:blipFill>
          <p:spPr>
            <a:xfrm>
              <a:off x="3276720" y="152388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5867280" y="2209680"/>
            <a:ext cx="2730600" cy="4095720"/>
          </a:xfrm>
          <a:prstGeom prst="rect">
            <a:avLst/>
          </a:prstGeom>
          <a:ln w="0">
            <a:noFill/>
          </a:ln>
        </p:spPr>
      </p:pic>
      <p:sp>
        <p:nvSpPr>
          <p:cNvPr id="122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Jokerman"/>
              </a:rPr>
              <a:t>More Basic Note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Jokerman"/>
              </a:rPr>
              <a:t>Quarter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One Beat Duration in common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Jokerman"/>
              </a:rPr>
              <a:t>4</a:t>
            </a:r>
            <a:r>
              <a:rPr b="0" lang="en-US" sz="3200" spc="-1" strike="noStrike">
                <a:solidFill>
                  <a:srgbClr val="ffffff"/>
                </a:solidFill>
                <a:latin typeface="Jokerman"/>
              </a:rPr>
              <a:t> Quarter notes = whole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962520" y="1447920"/>
            <a:ext cx="2057400" cy="838080"/>
            <a:chOff x="3962520" y="1447920"/>
            <a:chExt cx="2057400" cy="838080"/>
          </a:xfrm>
        </p:grpSpPr>
        <p:sp>
          <p:nvSpPr>
            <p:cNvPr id="127" name=""/>
            <p:cNvSpPr/>
            <p:nvPr/>
          </p:nvSpPr>
          <p:spPr>
            <a:xfrm>
              <a:off x="4724280" y="198144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24280" y="213372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24280" y="22860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4280" y="205740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24280" y="221004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29200" y="2057400"/>
              <a:ext cx="457200" cy="228600"/>
            </a:xfrm>
            <a:prstGeom prst="ellipse">
              <a:avLst/>
            </a:prstGeom>
            <a:solidFill>
              <a:srgbClr val="0000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86400" y="1447920"/>
              <a:ext cx="0" cy="762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3962520" y="1676520"/>
              <a:ext cx="304560" cy="304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124080" y="4419720"/>
            <a:ext cx="5791320" cy="2219040"/>
          </a:xfrm>
          <a:prstGeom prst="rect">
            <a:avLst/>
          </a:prstGeom>
          <a:ln w="0">
            <a:noFill/>
          </a:ln>
        </p:spPr>
      </p:pic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0000"/>
                </a:solidFill>
                <a:uFillTx/>
                <a:latin typeface="Jokerman"/>
              </a:rPr>
              <a:t>Subdivided Rhythms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800600" y="1599840"/>
            <a:ext cx="4038480" cy="453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Jokerman"/>
              </a:rPr>
              <a:t>Eighth No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 algn="ctr">
              <a:lnSpc>
                <a:spcPct val="90000"/>
              </a:lnSpc>
              <a:spcBef>
                <a:spcPts val="700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Half of a beat duration in commo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 algn="ctr">
              <a:lnSpc>
                <a:spcPct val="90000"/>
              </a:lnSpc>
              <a:spcBef>
                <a:spcPts val="700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Jokerman"/>
              </a:rPr>
              <a:t>8</a:t>
            </a: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 Eighth Notes = a whole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Jokerman"/>
              </a:rPr>
              <a:t>Sixteenth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Fourth of a Beat in Common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33"/>
                </a:solidFill>
                <a:latin typeface="Jokerman"/>
              </a:rPr>
              <a:t>16</a:t>
            </a:r>
            <a:r>
              <a:rPr b="0" lang="en-US" sz="2800" spc="-1" strike="noStrike">
                <a:solidFill>
                  <a:srgbClr val="ffffff"/>
                </a:solidFill>
                <a:latin typeface="Jokerman"/>
              </a:rPr>
              <a:t> Sixteenth Notes = a whole n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3429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Basic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Jokerman"/>
                <a:hlinkClick r:id="rId1" action="ppaction://hlinksldjump"/>
              </a:rPr>
              <a:t>Whole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Jokerman"/>
                <a:hlinkClick r:id="rId2" action="ppaction://hlinksldjump"/>
              </a:rPr>
              <a:t>Half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101e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Jokerman"/>
                <a:hlinkClick r:id="rId3" action="ppaction://hlinksldjump"/>
              </a:rPr>
              <a:t>Quarter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Jokerman"/>
              </a:rPr>
              <a:t>Subdivided N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848f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Jokerman"/>
                <a:hlinkClick r:id="rId4" action="ppaction://hlinksldjump"/>
              </a:rPr>
              <a:t>Eighth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4848fe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99"/>
                </a:solidFill>
                <a:uFillTx/>
                <a:latin typeface="Jokerman"/>
                <a:hlinkClick r:id="rId5" action="ppaction://hlinksldjump"/>
              </a:rPr>
              <a:t>Sixteenth No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>
            <a:hlinkClick r:id="" action="ppaction://hlinkshowjump?jump=previousslide"/>
          </p:cNvPr>
          <p:cNvSpPr/>
          <p:nvPr/>
        </p:nvSpPr>
        <p:spPr>
          <a:xfrm>
            <a:off x="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3399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839080" y="65530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cc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304920"/>
            <a:ext cx="853416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azzTextExtended"/>
              </a:rPr>
              <a:t>Glancing Back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azzTextExtended"/>
              <a:ea typeface="JazzTextExtended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inale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crosoft Office Webs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usic Theory 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228600"/>
            <a:ext cx="8534160" cy="9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Resource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4T14:09:12Z</dcterms:created>
  <dc:creator>Obi</dc:creator>
  <dc:description/>
  <dc:language>en-US</dc:language>
  <cp:lastModifiedBy>student</cp:lastModifiedBy>
  <dcterms:modified xsi:type="dcterms:W3CDTF">2006-03-29T01:05:15Z</dcterms:modified>
  <cp:revision>14</cp:revision>
  <dc:subject/>
  <dc:title>Rhythm in Motion</dc:title>
</cp:coreProperties>
</file>